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A75-FBA9-4837-BBE5-38F024AD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643-4A60-4CF7-845F-CB0CF80B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16F-A654-43B7-A0CA-26307E3E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3EA-B6DC-4780-AB6E-11E6BBA0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B45E-7BCF-4561-B329-E3DFC539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8C9-0641-4824-9596-42863BA5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621-2426-41AA-AFC2-E57C8D71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668-858B-4540-A90C-7CFFACC3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DF6-740B-4CB0-909E-16C298D4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25B4-E6F8-4472-97B0-B85E6BD4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BE6-33AF-41B8-8968-EB7FB176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6AB-D906-40C8-8AAB-05914029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EEA3-7694-4AC7-A004-B3CCE3C26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grayscl/>
            <a:lum contrast="-12000"/>
          </a:blip>
          <a:srcRect l="26496" t="67263" r="21116" b="31042"/>
          <a:stretch/>
        </p:blipFill>
        <p:spPr>
          <a:xfrm>
            <a:off x="6218280" y="3357720"/>
            <a:ext cx="1401840" cy="4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8:06Z</dcterms:modified>
  <cp:revision>30</cp:revision>
  <dc:subject/>
  <dc:title>SALARIUL</dc:title>
</cp:coreProperties>
</file>